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7C0-8814-4CF5-B293-731BB536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5C5-66CC-4D6D-9DDB-CB58F8FC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CA3-5EBE-4A1A-AABC-D3DE3B04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01D-24BA-4CED-84ED-4589BE48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EAC-A1D8-4A2D-8048-4D00C898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438-1F21-4188-9DFE-F5620BD5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6C4-5C47-42F7-BC5F-6A0E2CFC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4AF-A5C2-4FB1-BF8F-85569BA7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AB1-071E-4120-96B0-A4D78423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AFF-25D7-4BA7-8C21-9EA1C9A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9F9-A324-43B1-939C-44D346FE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A58-F886-4D1B-90E7-8892D06E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75E0-578F-4285-99A0-B0FDA7B38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ent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ow long shall we cry for hel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lis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r cry to you, ‘Violence!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s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 and hope, we respo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long, O people, how l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is your justice,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purpo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rea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compa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o you not care for your peop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reation, your repu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urpose is hid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ur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reason is absent to our 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passion is not discerned by 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 h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l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afr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me demand 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others seek ins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we have only Christ cruc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tumbling block and f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the wisdom of our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 is the power and wisdom of God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rely wisdom is vindi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her d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1 Corinthians 1:22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11: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, we appeal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hope, we will not let God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love, we claim God’s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et us honour th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receives our cri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gathers us to herself even as we continue to c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23: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9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50:57Z</dcterms:created>
  <dc:creator>Anon Anon</dc:creator>
  <dc:description/>
  <dc:language>en-US</dc:language>
  <cp:lastModifiedBy>Anon Anon</cp:lastModifiedBy>
  <dcterms:modified xsi:type="dcterms:W3CDTF">2005-08-09T05:17:18Z</dcterms:modified>
  <cp:revision>17</cp:revision>
  <dc:subject/>
  <dc:title>Lament (SLD-2)</dc:title>
</cp:coreProperties>
</file>